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CC62-CD28-42C8-AF76-73A624C7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A96B-00CB-4BE0-9B74-C88B24632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08E9-6B8B-4173-B715-58BD06028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BDBC-2496-4661-9620-38F990B42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C5E-323D-46BA-87B0-B9A53CA4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DE4-BD9C-4505-BA70-EC222DCB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BCF-8965-4874-B93E-89BA9802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7B1-93D7-4A78-8748-6F6D8BF5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A1D-4C89-45F9-BAAE-BE5391CC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9AE5-11D5-4E05-AED9-D0D207F5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E4EC-3356-4137-A46E-C375A27A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A983-A4C9-41CA-9230-5BCE662B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8FD4-1183-49B6-B0EA-3E3585E0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0ADD-39B1-4D86-9E16-90753D43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8D43-3089-4044-BEED-4C1AA259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9CB1-364A-45D9-A1F8-4BAAD2ED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A86-C903-49AF-91A4-6334BDF2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DDAA-86F7-433A-8DFF-DECA48FD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6938-4FA9-44C6-85C9-C940E08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1226-C636-4A02-B14B-FEA48375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8BBE-61DC-41F1-83B5-3CD20850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257C-FB6D-40EB-AB5B-07B4EEF3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FE7C-18E6-480E-B935-6CBE65A7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C1FA-18C8-4782-AD8C-33237A63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58FA-98EA-4F39-9DB3-7D5A7DE3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D348-B5D7-4F19-BC1E-4DC6FAB2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4318-FE71-4BE2-8568-774C9553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544-27E3-466B-8ABB-A226BA47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DD8A-BDB0-422D-826E-FB365114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4D1D-589B-4814-AADA-1CE264E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04C5-D41F-44B4-93B7-9D40CBBB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D44A-4670-47BC-A830-7B9AB2E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2B29-E0E1-4F06-A78C-679063AA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B202-7DDC-46D2-84C0-5E0F5755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1B51-0720-4272-AB42-1F130F03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FAC43-2683-4054-BFEF-3FA3D8F6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6A35-C703-4C56-B377-5CF94C1B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8026C-D8DC-45B2-BE7E-23B9AFFC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99E-E527-4AC5-852E-848AC3B2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B1C9-E89D-4A7A-9159-E6220EE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15850-5A7F-4BD3-AF04-C7D930C9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3E9F9-9616-4B8E-958B-F20AB27E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813D-D400-4628-A80D-09C0D3D4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2A9E-4C9B-4179-92FF-95D74FDD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AF25A-E1DE-478F-985B-B69B9CEF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6076-F7E7-4083-A995-26E704D4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D689-FAC2-41C3-857B-7530FB7E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AB9E-E67F-4515-994C-9CE5A20D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1BF-CF93-4279-9769-1BC761FF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1EC-173F-4797-8C77-671533E7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456-C246-40AC-9C1F-5CA698C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A86-9280-4CD8-80C8-01C8FFE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CD5-32AC-4791-ABAD-FA74577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B5EF-A947-4D9B-8CFE-0A8A961AE3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F783-842D-4608-9CA6-A91AA9CC35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CCD8-0816-4BD2-B9C7-CF44AC505FA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A1E-2853-4161-8650-E078906409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e you taking not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sign By Mckayla Johnsto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s to write an equation in standard form given two points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nd the slope, remember y’s on top and x’s on the bott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rite in point slope form, use the first poi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llow the rules for standard form to convert into standard for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parenthe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frac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 and Y on the left of the equ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needs to be posit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#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ite an equation in standard form given the following points, (1,1) and (3,2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sl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= 1/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 – 1 = ½(x – 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 a group work to write the same equation in standard 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 – 2y = -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ite an equation in standard form given the following points, (2,0) and (-2,-14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sl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= 7/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 – 0 = 7/2(x – 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 a group work to write the same equation in standard 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x – 2y = 1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12:18Z</dcterms:created>
  <dc:creator>Preferred Customer</dc:creator>
  <dc:description/>
  <dc:language>en-US</dc:language>
  <cp:lastModifiedBy>Floyd Stensrud</cp:lastModifiedBy>
  <dcterms:modified xsi:type="dcterms:W3CDTF">2009-01-26T13:53:37Z</dcterms:modified>
  <cp:revision>5</cp:revision>
  <dc:subject/>
  <dc:title>Starting with two points</dc:title>
</cp:coreProperties>
</file>